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DD0-D364-4D82-B438-28AA1D3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C0F-2BB8-4100-983F-8F7BE08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56B-D1B0-42C3-8D30-6B24BCF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32B-603F-465A-B8CD-533839AC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B81-8E87-40BD-AF27-BB1DD9F2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B67-648D-403E-ACD8-F28A1066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7D9F-B6D1-4480-A8C8-A9D4D17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D87-7357-45F1-A40F-0217A32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BDEE-7F86-4AC3-892D-BE9329E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1BC4-5422-4861-AE87-92D8501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6F4-882C-4F60-B863-AC339CA3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0B0-CD3D-4368-9EA5-8500BC96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1A35-B5AB-4564-B4EE-35DA7108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B927-AAC6-41AE-8C73-E5F5393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A85-697D-4122-A29A-6A1A180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1C9-26F8-480B-9947-52B8382C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4A22-0C86-4297-8ACC-70194B4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DBF3-6D15-4797-89C2-310E775E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DAA7-0D6C-426D-9FA8-DC3D2DFD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6439-787E-4A9C-B805-27630C0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108E-24F9-40DF-AC32-7EB9FF5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8017-247B-4A63-AA5B-AC66A16F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2F1-C19C-4391-AB06-33947E8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C0B7-6A0C-4516-9E34-DE77BB56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97A4-BBC7-417E-94D6-41DF479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22C0-E5D8-4A29-BC36-37D227F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CC00-C26C-42B6-84FC-887B4D2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2806-5131-4229-AA48-0D37031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B434-0307-43F2-A3F1-7DE7696C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BDB4-B27C-43E9-BF7E-FCF694A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F04E-4704-4E3A-A46F-B67E3775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0D03-2D14-4543-B4FF-A850F7B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F50B4-260C-45CA-AC2D-68149554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96F-9E0C-4B65-82A0-506A31E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054C-9524-434F-970B-6F1BB7A6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C30F-36E1-46AB-8C50-CD64F4E6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7803-33CC-4351-9DDB-9CA75144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92D9-C178-4EDA-A6C7-A64998C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4BF8-47BC-4E64-9C72-5D02B7C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6036-F186-4CF7-B11E-768CE6E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0A43-439A-4ECF-897C-266756A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49B3-DDDC-4BBD-9B00-0111EAD7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4CD7-9453-4560-BF44-88F0F552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F94A-2CF0-4EA8-8AFF-1BFDFA2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DB1-160F-4A35-A279-0672F80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6D69-1DC6-4FFF-B107-CA50D00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22BF-7E4B-4175-B39E-42E8412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E379-38A6-4679-9DF7-B9473B1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1076-8117-4A4E-9145-96A4D445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1D90-0B09-4227-B226-E3B381AF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5036-3F6E-40EF-82B0-58B9CE9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8BCA-66B1-4A82-B5BA-71586B7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EB62-1436-41CA-9885-C0BA427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A7A6-93E9-4A1A-877F-38A011A3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D9A3-5671-4084-8081-E7328D9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0F6-202D-4FBB-828B-650CFCC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C5A9-6FC8-4BFE-AB63-E3894B6B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D3C4-32E9-4F46-93BA-2ABC74E6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C816-B6F4-43F2-8A99-36A0355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847D-D3C0-44FF-86CA-A3962E3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DE1C-61E9-42B9-B6E6-9CC406F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4ED2-1B7F-4CBE-8C61-A4B72437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D7B5-7EFF-4BB6-930D-8D6F7C3B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0754-4ECF-4E17-8427-F66D937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1645-B0EA-4B41-95C8-CDA8B57B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BA7F-CC7F-4D55-A085-CBE1645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D76-AC70-4EA4-9B40-E7733AC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69EC-E554-4389-8F07-C11859E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FCC8-1F6B-4DAE-9875-D775FD9C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3187-C2E8-43D6-AA2D-990B4C4C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4D512-993D-48C6-AC48-B931E578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83CB-B4E8-4358-9C96-31EF3B7D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F6356-B456-4666-B5DB-C0A8252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B1D8-270F-4C3F-9B50-E37AF85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3C3C-FE55-4B8C-AD59-6A09B38B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61785-0F9D-481B-859B-0B65788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6623-4F02-49D9-8B00-29573FB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060-D1B7-48B0-9E7B-BD282D0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5D35-5EB0-448E-9D97-893EC99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AF54-6380-4C37-90D3-9331C0B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6DF9-ECD8-4E4F-8E74-5F614B1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C41D1-2535-4A7D-8BBE-0AB4F030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0A54-CA41-45BB-AA64-49CB8C40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69BC-4DC0-4C9E-BE1D-77F72E12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A7A61-DC7C-4B8C-BC1D-0FBB043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32A9-E7DD-40BF-B991-1441D1F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CCC40-F63E-4A31-B0F2-EDFA36B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84CA-0CB1-41C7-B863-2E9317A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215-2BE7-438D-A25F-30C8D1D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874D-B849-4BC4-A62F-46250197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1CAC7-84E0-4059-B3BE-7247249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C9B5-6E50-4524-870D-6E249DD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20DB9-E9D5-49FF-B3A2-3877AF1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8181-FAF9-49DA-8031-A1DFAE6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83A21-0594-4855-A774-C849BC02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8D66-63C4-4E38-8CAC-600F931E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ED6-9CEF-4EC3-B7D2-5F03C266CAE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10E5-8C91-4097-AC70-701E0CE7BC7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C68-C0C8-44C1-BBDD-3A6ABCAD2FC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C4A-72D2-4DAA-927C-579D80E4245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CCC-AF02-40B0-9E5B-6C55F3B1E9E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DA1-A18B-4EA8-9870-8B5FC53C14A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20C-63AC-49CE-AD66-6B3B6055307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EE9-4800-4328-B368-F254550297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6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6.1% of O’Gorman students scored a 4 or 5 while only 25.1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92.2% of O’Gorman students passed the test while 54.5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80880" y="762120"/>
          <a:ext cx="8229600" cy="5462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6-07-17T17:45:06Z</dcterms:modified>
  <cp:revision>29</cp:revision>
  <dc:subject/>
  <dc:title>2011 AP English  Literature and Composition Results</dc:title>
</cp:coreProperties>
</file>